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A2DAE-78DC-45F9-BA2D-F5D8E5E31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74110-ACFC-434F-AA2E-612F51AF0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DF412-FE03-4493-BFC9-83D88938B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B2A5E-7089-47F1-B7D5-2A208669E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EB9F6-22C3-4BC3-A72F-97E9567CF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B9350-15F8-4A0E-931B-3D133A698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02EF6-3CCD-4CBE-A715-5E88323AA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B0CA5-59CE-49EE-B31E-66C74BB90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53125-CA3B-45D7-B890-796AB8BB0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FDA54-C271-4942-BB1C-7AEDECB16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9BD13-0521-4704-BB2F-D00DBC93B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6A83B-6D49-4413-B67B-CF6336F3A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212A9-1E7C-401E-AB90-EF4243621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25292-BB18-4507-A77D-2C670C65F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08ADE-08C9-4087-B451-9DB5A4F55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C504B-6B7B-4CC1-A92A-F8F77B36D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47052-EA54-444E-96EF-9056E2AC1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A4E4D9-836B-4FEC-87C1-D2F9E5C29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316489-D0B3-4E14-95A3-36954929D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42DF1E-2770-4D5C-B13A-CA8FFF791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947A9E-833C-4E9C-86AC-0EA385B70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B828D0-6C21-494C-9E7F-AAACFB69D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8BB02-DBF4-4C4B-9545-3A64D183E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D3EEEA-D60F-414E-9438-76D55CF45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3D9C6E-0602-406E-B008-6FB5EF64B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D5D96F-FFA8-48EE-B6CD-5304463FC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B797CE-BCA5-4409-8338-DEC65CEDA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4FFB19-1BFB-4C7F-8DD5-421F32760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246D19-3050-4BD1-A8B1-BE6EAEAD9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5F35DB-1913-4162-9CF9-A12CB4083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F1A6A9-FF21-4700-824C-4BE7F1199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6F0904-40B4-4BE0-B6DE-B4CCABE1C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ACA8D5-B6C4-42B4-A0D1-238A8486B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2A1A7-B002-43A2-9B1E-3C23AA0BF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544690-DA38-493A-BE12-0BC5CD2EB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909B6A-1251-45AE-96A8-0860E2583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2DDD31-E706-4E5F-9C3C-46BA34095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3E6460-BA18-450D-8A59-7E9B21675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E561B3-6FB5-40E6-A77B-2D8EAF169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0092BD-B0B8-4AB4-B3EF-CB070FE67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05ADB8-53C2-47D4-AB8A-9AE3E01D1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8A1D51-3353-48CD-A62F-C99F38D4F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2E9FF3-B1E1-4A9D-8759-2D9A02428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B90890-1DC4-4EF6-857D-BD13F313A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AF39E-2760-4942-B49A-41CE474BF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CEB37D-01C7-4A81-A093-B008F2805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EFDBF3-AA06-4172-A2C0-3D7F3B927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C3C59B-F972-4AB7-9B63-6F07B3CB4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8DDC7B-7ACB-44A5-9EA8-C5A7CA020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B3C9DA-9F29-47CF-8986-3AA2CE5A1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F88A67-1A23-40ED-8355-E45DEBDA1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833FE7-C902-4A3F-8356-1BDF0A36A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E4E064-AC76-4ED3-BDF8-F209D4179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9A06F7-FAFA-47B5-B6AC-E367E5295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25F3F1-957C-4A23-B71B-FB34AF1C2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59F4B-A7BA-4B59-AD91-BA21E3443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E2F696-01DA-4603-B34C-BA45BD325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CE3889-7B5F-4EBE-B260-C36837164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1020EC-EC99-4B7E-9FC5-AD9C094BF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BB6212-CCF2-47CE-B123-10265E1E4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2B3CD3-F08F-4BC2-984A-738E71063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7E3DC3-3F50-463C-9FA8-97948867C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238227-7F50-41FD-B4FC-CD312D6E5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BEBACF-648B-4D9B-8378-8D28455F8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A9F92F-2B36-4819-BAF7-F8B28ADBE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0CCBD8-F45E-4C32-BEC9-2EED4B126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F5E1D-CF53-48CB-8F12-37EF99353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64478D-B285-4934-8A26-BD6B92577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60F7A5-50F0-4E65-901E-C7FEC7D8F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B2CA1E-90B7-49F6-83FC-DA38C032D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2D5809-0133-4013-9AB2-BE4C2AC05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E43083-D822-4A0B-93AD-E4F8C5CF1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E3F423-FDC3-4A5A-AA92-4B8967C37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BF2C7B-F01B-4121-B6E0-B807D755E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95542B-D693-4D94-80E1-FBB1EC408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9E909F-FB95-447A-8CF1-6965CBD3B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A7C1E8-4B2F-4026-8180-D41BA7FB5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471A1-2E98-43B9-86C3-44E955C03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188904-BABF-4A7A-8D74-114FBF3E9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0A4C2F-405E-4E73-B308-8AC60DEB0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8AB2CD-CFF7-4793-AB08-40B68C0AD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5727C6-5D50-4150-9318-8A93DD660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5ACA6D-3185-4A00-B480-410E4F331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58A34-4D3E-4CDA-9C2E-6C7B255E5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9C3CB-2DC3-4ACE-9ED8-378E0B351ED0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Oval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Oval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Ov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36D62-2C28-4435-8D8D-5768A7DB60B9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Oval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Oval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Oval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A0492-7779-4A7A-859A-523AE13EFF7C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A50BC-4E38-484C-994F-50F2E192EAC0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B700E-1551-4286-A42F-8D8A73CB2C3D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C5B12-93B9-41B6-A945-0D747DCA1CC5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Rectangle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Rectangle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Flowchart: Proces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Flowchart: Proces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06567-851B-4839-A488-36150EF1CDDF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szFO7Wo7ZCE" TargetMode="Externa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Menstrual Cycl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19" name="Picture 3" descr=""/>
          <p:cNvPicPr/>
          <p:nvPr/>
        </p:nvPicPr>
        <p:blipFill>
          <a:blip r:embed="rId1"/>
          <a:stretch/>
        </p:blipFill>
        <p:spPr>
          <a:xfrm>
            <a:off x="4876920" y="2133720"/>
            <a:ext cx="3800520" cy="374328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5" descr="http://www.ovulation-calculator.com/files/cycleimage.gif"/>
          <p:cNvPicPr/>
          <p:nvPr/>
        </p:nvPicPr>
        <p:blipFill>
          <a:blip r:embed="rId2"/>
          <a:stretch/>
        </p:blipFill>
        <p:spPr>
          <a:xfrm>
            <a:off x="1066680" y="4038480"/>
            <a:ext cx="3810240" cy="22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The Cycl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trongly linked to the endocrine system (hormone based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ypically takes 28 days to cycle through 4 phase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llicula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Ovulatio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Lutea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Menstruatio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Hormones raise and fal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3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3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3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30" descr="menst1"/>
          <p:cNvPicPr/>
          <p:nvPr/>
        </p:nvPicPr>
        <p:blipFill>
          <a:blip r:embed="rId1"/>
          <a:stretch/>
        </p:blipFill>
        <p:spPr>
          <a:xfrm>
            <a:off x="1523880" y="1523880"/>
            <a:ext cx="7359840" cy="4830840"/>
          </a:xfrm>
          <a:prstGeom prst="rect">
            <a:avLst/>
          </a:prstGeom>
          <a:ln w="0">
            <a:noFill/>
          </a:ln>
        </p:spPr>
      </p:pic>
      <p:sp>
        <p:nvSpPr>
          <p:cNvPr id="324" name="Text Box 32"/>
          <p:cNvSpPr/>
          <p:nvPr/>
        </p:nvSpPr>
        <p:spPr>
          <a:xfrm>
            <a:off x="4572000" y="1219320"/>
            <a:ext cx="137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Ov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Line 31"/>
          <p:cNvSpPr/>
          <p:nvPr/>
        </p:nvSpPr>
        <p:spPr>
          <a:xfrm>
            <a:off x="5181480" y="1638360"/>
            <a:ext cx="0" cy="5219640"/>
          </a:xfrm>
          <a:prstGeom prst="line">
            <a:avLst/>
          </a:prstGeom>
          <a:ln w="25560">
            <a:solidFill>
              <a:srgbClr val="80808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Follicular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Begins when estrogen levels are low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Anterior pituitary secretes FSH and LH, stimulation follicle to develop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ells around egg enlarge, releasing estroge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s causes this uterine lining to thicken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500"/>
                                        <p:tgtEl>
                                          <p:spTgt spid="3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Ovulation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LH and FSH still being released, for another 3-4 day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llicle ruptures,  releasing ova into the Fallopian tube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" dur="500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Luteal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Now empty follicle changes to a yellow colour, becomes corpus luteum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ontinues to secrete estrogen, but now beings to release progesteron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Progesterone further develops uterine lining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f pregnant, embryo will release hormones to preserve corpus luteum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500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00"/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Menstruation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768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8dc765"/>
                </a:solidFill>
                <a:uFillTx/>
                <a:latin typeface="Gill Sans MT"/>
                <a:hlinkClick r:id="rId1"/>
              </a:rPr>
              <a:t>Menstruatio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f no embryo, the corpus luteum begins to disintegrat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Progesterone levels drop, uterine lining detaches, menstruation can begi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issue, blood, unfertilized egg all discharged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an take from 3-7 day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3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Picture 2" descr=""/>
          <p:cNvPicPr/>
          <p:nvPr/>
        </p:nvPicPr>
        <p:blipFill>
          <a:blip r:embed="rId1"/>
          <a:stretch/>
        </p:blipFill>
        <p:spPr>
          <a:xfrm>
            <a:off x="838080" y="914400"/>
            <a:ext cx="791532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2" descr=""/>
          <p:cNvPicPr/>
          <p:nvPr/>
        </p:nvPicPr>
        <p:blipFill>
          <a:blip r:embed="rId1"/>
          <a:stretch/>
        </p:blipFill>
        <p:spPr>
          <a:xfrm>
            <a:off x="838080" y="1219320"/>
            <a:ext cx="782172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30T16:45:52Z</dcterms:created>
  <dc:creator>ED18</dc:creator>
  <dc:description/>
  <dc:language>en-US</dc:language>
  <cp:lastModifiedBy>ED18</cp:lastModifiedBy>
  <dcterms:modified xsi:type="dcterms:W3CDTF">2012-05-28T10:33:43Z</dcterms:modified>
  <cp:revision>6</cp:revision>
  <dc:subject/>
  <dc:title>Menstrual Cycle</dc:title>
</cp:coreProperties>
</file>